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2404050" cy="396033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A1FC-A8DB-4E49-94DF-731B54EF2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FFBD-A1D1-4224-B419-8C61293A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4CAF-7C44-488C-8AA3-EE3B6E4F2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F4F3-7547-421A-8257-54B2DA72A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B54B-F480-42F5-B747-41BFD632D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6EBD3-AB06-4206-A7E2-77970D2F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B474-A135-44A1-9390-E931D35E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01403-E90B-43B4-9CDC-6ADE787F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2C41-F7F8-4539-BA90-7389D977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6EEE-2EEA-41B3-8E13-D86D4F3E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66645-2E4D-4A73-814E-63821FAB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3818-4D96-4101-B863-A26EDE21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1DDD-ED57-432E-91D4-536CCEAA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9015-6FFD-4785-9084-B42CAE05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5BE2-F4BD-4F68-9B7E-4C129A8F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140AA-B1CC-4961-AE50-D33BF2BA8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B34F9-F68F-47EA-9A9A-A5D82FB9D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09FF-D539-4FF0-A5A7-FB42FAC4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1BC2-2820-4A69-A936-3A033D42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5242-F8CC-46BC-9842-4BE7014A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1E64-151F-4391-BC3C-EF2703F7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4322-56DD-4A5C-9239-F83EFBA1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B35E-1571-43AE-A463-3FCF93F0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ACAC-2356-4692-8323-74319474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ffff">
                <a:alpha val="81176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0E19-9E5E-4EBA-A94C-4C4E2B3AFF08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ffff">
                <a:alpha val="81176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2448000" y="19291320"/>
            <a:ext cx="27120600" cy="2805120"/>
          </a:xfrm>
          <a:custGeom>
            <a:avLst/>
            <a:gdLst>
              <a:gd name="textAreaLeft" fmla="*/ 0 w 27120600"/>
              <a:gd name="textAreaRight" fmla="*/ 27120960 w 27120600"/>
              <a:gd name="textAreaTop" fmla="*/ 0 h 2805120"/>
              <a:gd name="textAreaBottom" fmla="*/ 2805480 h 280512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FA08-1580-4DD8-A3E4-3647C1FE9030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20"/>
          <p:cNvSpPr/>
          <p:nvPr/>
        </p:nvSpPr>
        <p:spPr>
          <a:xfrm>
            <a:off x="1062000" y="4889520"/>
            <a:ext cx="30621240" cy="110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6300" spc="-1" strike="noStrike">
                <a:solidFill>
                  <a:srgbClr val="000066"/>
                </a:solidFill>
                <a:latin typeface="Arial"/>
              </a:rPr>
              <a:t>Título da pesquisa  XXXXXXXXXXXXXXXXX</a:t>
            </a:r>
            <a:endParaRPr b="0" lang="en-US" sz="6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322"/>
          <p:cNvSpPr/>
          <p:nvPr/>
        </p:nvSpPr>
        <p:spPr>
          <a:xfrm>
            <a:off x="73080" y="7178760"/>
            <a:ext cx="32187960" cy="33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66"/>
                </a:solidFill>
                <a:latin typeface="Arial"/>
              </a:rPr>
              <a:t>Aluno ou Aluna: </a:t>
            </a:r>
            <a:r>
              <a:rPr b="1" lang="pt-BR" sz="5100" spc="-1" strike="noStrike">
                <a:solidFill>
                  <a:srgbClr val="000066"/>
                </a:solidFill>
                <a:latin typeface="Arial"/>
              </a:rPr>
              <a:t>XXXXXXXX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66"/>
                </a:solidFill>
                <a:latin typeface="Arial"/>
              </a:rPr>
              <a:t>Orientador: </a:t>
            </a: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ou Orientadora:</a:t>
            </a:r>
            <a:r>
              <a:rPr b="0" lang="pt-BR" sz="5100" spc="-1" strike="noStrike">
                <a:solidFill>
                  <a:srgbClr val="000066"/>
                </a:solidFill>
                <a:latin typeface="Arial"/>
              </a:rPr>
              <a:t> Prof. ou Profa. XXXXX Se for Doutor, Prof. Dr. ou Profa. Dra.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400" spc="-1" strike="noStrike">
                <a:solidFill>
                  <a:srgbClr val="000066"/>
                </a:solidFill>
                <a:latin typeface="Arial"/>
              </a:rPr>
              <a:t>Superior Tecnológico - Ambiente e Saúde – Estética e Cosmética - Indianópolis (trata-se de um exemplo: cada aluno deve preencher com seus dados de curso e </a:t>
            </a:r>
            <a:r>
              <a:rPr b="0" i="1" lang="pt-BR" sz="5400" spc="-1" strike="noStrike">
                <a:solidFill>
                  <a:srgbClr val="000066"/>
                </a:solidFill>
                <a:latin typeface="Arial"/>
              </a:rPr>
              <a:t>campus</a:t>
            </a:r>
            <a:r>
              <a:rPr b="0" lang="pt-BR" sz="5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Text Box 361"/>
          <p:cNvSpPr/>
          <p:nvPr/>
        </p:nvSpPr>
        <p:spPr>
          <a:xfrm>
            <a:off x="7315200" y="1606680"/>
            <a:ext cx="25088760" cy="233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7200" spc="-1" strike="noStrike">
                <a:solidFill>
                  <a:srgbClr val="000066"/>
                </a:solidFill>
                <a:latin typeface="Arial"/>
              </a:rPr>
              <a:t>Apoio UNIP - Vice-Reitoria de Pós-Graduação e 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200" spc="-1" strike="noStrike">
                <a:solidFill>
                  <a:srgbClr val="000066"/>
                </a:solidFill>
                <a:latin typeface="Arial"/>
              </a:rPr>
              <a:t>Pesquisa 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1224000" y="36252000"/>
            <a:ext cx="1119672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51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4200" spc="-1" strike="noStrike">
                <a:solidFill>
                  <a:srgbClr val="000066"/>
                </a:solidFill>
                <a:latin typeface="Arial"/>
              </a:rPr>
              <a:t>Palavras-chave</a:t>
            </a:r>
            <a:r>
              <a:rPr b="0" lang="pt-BR" sz="4200" spc="-1" strike="noStrike">
                <a:solidFill>
                  <a:srgbClr val="000066"/>
                </a:solidFill>
                <a:latin typeface="Arial"/>
              </a:rPr>
              <a:t>: (de 03-três até 05-cinco)</a:t>
            </a:r>
            <a:endParaRPr b="0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Picture 9" descr="C:\Users\POS\Pictures\Logos\LogoTarja_ViceReitoria.png"/>
          <p:cNvPicPr/>
          <p:nvPr/>
        </p:nvPicPr>
        <p:blipFill>
          <a:blip r:embed="rId1"/>
          <a:stretch/>
        </p:blipFill>
        <p:spPr>
          <a:xfrm>
            <a:off x="1401840" y="1152360"/>
            <a:ext cx="75992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5:26:35Z</dcterms:created>
  <dc:creator>UNIP</dc:creator>
  <dc:description/>
  <dc:language>en-US</dc:language>
  <cp:lastModifiedBy>POS</cp:lastModifiedBy>
  <dcterms:modified xsi:type="dcterms:W3CDTF">2023-03-16T18:04:24Z</dcterms:modified>
  <cp:revision>182</cp:revision>
  <dc:subject/>
  <dc:title>Slide sem título</dc:title>
</cp:coreProperties>
</file>